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5E18-264E-4B7E-91F6-13771B8D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910-D4C9-4D33-8E71-0B7DAAA5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AA7E-0B87-4894-8D35-668FE2A0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C45-F8D3-40DA-AFD6-1D164C3B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E30-F8C9-488F-8944-9CBD509D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B310-A3E9-4718-A2AA-B699E7C1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828C-AA0F-4969-9A66-DB6D4128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752-DA9A-4069-9352-5650844D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FF41-CABF-471C-AE6F-D2CC7FE2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57B1-8D9A-47BA-86CD-15A1AF77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F9C9-DB80-4265-9BB4-AB18AAAB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E85-E58A-4CA3-9FEC-D5BA297A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99F6-8BFB-45C3-B1AF-83C7A45AA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 Clase 7 il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2 de octubre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18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¿Estas listo/a para tu exa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 (12-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9 (16-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9 (21-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9 (24-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18 (Minimum of 10 Spanish Senten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352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5T16:21:52Z</dcterms:created>
  <dc:creator>Helen Zumaeta</dc:creator>
  <dc:description/>
  <dc:language>en-US</dc:language>
  <cp:lastModifiedBy>Helen Zumaeta</cp:lastModifiedBy>
  <dcterms:modified xsi:type="dcterms:W3CDTF">2012-10-22T15:53:06Z</dcterms:modified>
  <cp:revision>7</cp:revision>
  <dc:subject/>
  <dc:title>Me llamo _______ Clase 6nh/il La fecha es el 15 de junio del 2011</dc:title>
</cp:coreProperties>
</file>